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3.png" ContentType="image/png"/>
  <Override PartName="/ppt/media/image17.jpeg" ContentType="image/jpeg"/>
  <Override PartName="/ppt/media/image24.jpeg" ContentType="image/jpeg"/>
  <Override PartName="/ppt/media/image19.jpeg" ContentType="image/jpeg"/>
  <Override PartName="/ppt/media/image4.wmf" ContentType="image/x-wmf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.png" ContentType="image/png"/>
  <Override PartName="/ppt/media/image2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056A-1F93-4CD3-933C-ACF8D0877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76B9-12C3-43D4-A0BF-A7B52D2EA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1FC0-DEDC-45CA-9E08-2AB6E7528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99EC-141C-4C95-88BD-C75C480DD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BA80-075A-4198-BDA2-49AC5F6E2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73B5-CBB4-4778-82D3-B8C1B9076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4E11-30B0-43F0-9EC5-656DF7A58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44A8-02FA-45C5-A061-E1A526A32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67AF-228B-4022-B5FB-4497C1B3A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24A2-4BC1-473C-8483-8B050661D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61C0-F02D-4A50-9B8B-C7889B7AA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CD8C-51EB-47D5-8D28-20FE47D02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CECFB-3C47-46ED-A5C4-4E6EB74E6D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24000" y="549360"/>
            <a:ext cx="504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شعار المعارف" descr=""/>
          <p:cNvPicPr/>
          <p:nvPr/>
        </p:nvPicPr>
        <p:blipFill>
          <a:blip r:embed="rId2"/>
          <a:stretch/>
        </p:blipFill>
        <p:spPr>
          <a:xfrm>
            <a:off x="3708360" y="907920"/>
            <a:ext cx="148608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" name=""/>
          <p:cNvGraphicFramePr/>
          <p:nvPr/>
        </p:nvGraphicFramePr>
        <p:xfrm>
          <a:off x="6227640" y="692280"/>
          <a:ext cx="1860840" cy="1060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27640" y="692280"/>
                    <a:ext cx="1860840" cy="106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BISM1" descr=""/>
          <p:cNvPicPr/>
          <p:nvPr/>
        </p:nvPicPr>
        <p:blipFill>
          <a:blip r:embed="rId5"/>
          <a:stretch/>
        </p:blipFill>
        <p:spPr>
          <a:xfrm>
            <a:off x="3635280" y="404640"/>
            <a:ext cx="1486080" cy="4064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50920" y="234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42640" rIns="1142640" tIns="-913680" bIns="-11376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8160" y="126792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2892600"/>
            <a:ext cx="8497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ff"/>
                </a:solidFill>
                <a:latin typeface="Arial"/>
                <a:cs typeface="Bader"/>
              </a:rPr>
              <a:t>خطوات التسجيل في اختبار القدرات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050920" y="4149720"/>
            <a:ext cx="48974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ff"/>
                </a:solidFill>
                <a:latin typeface="Arial"/>
                <a:cs typeface="Monotype Koufi"/>
              </a:rPr>
              <a:t>إعدا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ff"/>
                </a:solidFill>
                <a:latin typeface="Arial"/>
                <a:cs typeface="Monotype Koufi"/>
              </a:rPr>
              <a:t>أخوك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ff"/>
                </a:solidFill>
                <a:latin typeface="Arial"/>
                <a:cs typeface="Monotype Koufi"/>
              </a:rPr>
              <a:t>طارق السنحاني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5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322200" y="260280"/>
            <a:ext cx="8821800" cy="59770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2340000" y="1052640"/>
            <a:ext cx="216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0000"/>
                </a:solidFill>
                <a:latin typeface="Arial"/>
                <a:cs typeface="SKR HEAD1"/>
              </a:rPr>
              <a:t>هنا سيظهر اسم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27640" y="1557360"/>
            <a:ext cx="649080" cy="287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419640" y="2286000"/>
            <a:ext cx="316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0000"/>
                </a:solidFill>
                <a:latin typeface="Arial"/>
                <a:cs typeface="SKR HEAD1"/>
              </a:rPr>
              <a:t>أكد هنا إذا الاسم صحي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6588000" y="2420640"/>
            <a:ext cx="1079640" cy="144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627280" y="3716280"/>
            <a:ext cx="244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0000"/>
                </a:solidFill>
                <a:latin typeface="Arial"/>
                <a:cs typeface="SKR HEAD1"/>
              </a:rPr>
              <a:t>اختر الجنسي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067360" y="4005360"/>
            <a:ext cx="503280" cy="144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79640" y="4314960"/>
            <a:ext cx="331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0000"/>
                </a:solidFill>
                <a:latin typeface="Arial"/>
                <a:cs typeface="SKR HEAD1"/>
              </a:rPr>
              <a:t>اختر ثانوي  ثم حدد الص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003640" y="4797360"/>
            <a:ext cx="1366920" cy="287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763640" y="6018120"/>
            <a:ext cx="432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0000"/>
                </a:solidFill>
                <a:latin typeface="Arial"/>
                <a:cs typeface="SKR HEAD1"/>
              </a:rPr>
              <a:t>حدد التخصص إما علمي أو نظري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084720" y="6021360"/>
            <a:ext cx="1440000" cy="287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059280" y="2205000"/>
            <a:ext cx="433080" cy="5032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SKR HEAD1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00360" y="3645000"/>
            <a:ext cx="576360" cy="5047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SKR HEAD1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547640" y="4292640"/>
            <a:ext cx="576360" cy="5047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SKR HEAD1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63640" y="6093000"/>
            <a:ext cx="576360" cy="5047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SKR HEAD1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3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4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5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6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7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8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9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0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1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2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3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4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5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24000" y="907920"/>
            <a:ext cx="8280360" cy="56199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219640" y="189000"/>
            <a:ext cx="338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 u="sng">
                <a:solidFill>
                  <a:srgbClr val="ff0000"/>
                </a:solidFill>
                <a:uFillTx/>
                <a:latin typeface="Arial"/>
                <a:cs typeface="SKR HEAD1"/>
              </a:rPr>
              <a:t>تابع إدخال البيانات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7451640" y="4005360"/>
            <a:ext cx="1152720" cy="576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093080" y="3254400"/>
            <a:ext cx="216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0000"/>
                </a:solidFill>
                <a:latin typeface="Arial"/>
                <a:cs typeface="SKR HEAD1"/>
              </a:rPr>
              <a:t>اختر القسم  التعليمي حسب تخصص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7524720" y="5734080"/>
            <a:ext cx="503280" cy="3589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459640" y="2779560"/>
            <a:ext cx="576360" cy="5050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SKR HEAD1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101080" y="5229360"/>
            <a:ext cx="576360" cy="5047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SKR HEAD1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5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6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7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0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1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2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1040"/>
                            </p:stCondLst>
                            <p:childTnLst>
                              <p:par>
                                <p:cTn id="30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8209080" cy="53881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2771640" y="3284640"/>
            <a:ext cx="288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0000"/>
                </a:solidFill>
                <a:latin typeface="Arial"/>
                <a:cs typeface="SKR HEAD1"/>
              </a:rPr>
              <a:t>اكتب هنا اسم مدرست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219640" y="3716280"/>
            <a:ext cx="216000" cy="4334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508720" y="3357720"/>
            <a:ext cx="576000" cy="5047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SKR HEAD1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227280" y="4149720"/>
            <a:ext cx="1008360" cy="142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164360" y="3860640"/>
            <a:ext cx="576360" cy="5050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SKR HEAD1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00720" y="4056120"/>
            <a:ext cx="136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Arial"/>
                <a:cs typeface="SKR HEAD1"/>
              </a:rPr>
              <a:t>مجمع الأمير محم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8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0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324000" y="1125360"/>
            <a:ext cx="8496000" cy="52563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3492360" y="189000"/>
            <a:ext cx="496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 u="sng">
                <a:solidFill>
                  <a:srgbClr val="000000"/>
                </a:solidFill>
                <a:uFillTx/>
                <a:latin typeface="Arial"/>
                <a:cs typeface="SKR HEAD1"/>
              </a:rPr>
              <a:t>نتيجة البحث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45080" y="5516640"/>
            <a:ext cx="359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0000"/>
                </a:solidFill>
                <a:latin typeface="Arial"/>
                <a:cs typeface="SKR HEAD1"/>
              </a:rPr>
              <a:t>اضغط على اختيار سينقلك لصفحة تجد اختيارك قد تظلل باللون البرتقالي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 flipV="1">
            <a:off x="7740360" y="5373720"/>
            <a:ext cx="647640" cy="216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5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6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7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68360" y="260280"/>
            <a:ext cx="8064360" cy="60501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 flipH="1" flipV="1">
            <a:off x="5219640" y="5733720"/>
            <a:ext cx="1152720" cy="1429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012000" y="5516640"/>
            <a:ext cx="2881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  <a:cs typeface="SKR HEAD1"/>
              </a:rPr>
              <a:t>اضغط موافق للعودة                 لإكمال إدخال البيانات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7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500"/>
                            </p:stCondLst>
                            <p:childTnLst>
                              <p:par>
                                <p:cTn id="38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8569440" cy="62913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755640" y="1052640"/>
            <a:ext cx="439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0000"/>
                </a:solidFill>
                <a:latin typeface="Arial"/>
                <a:cs typeface="SKR HEAD1"/>
              </a:rPr>
              <a:t>لا حظ تم إضافة اسم مدرستك هنا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5148360" y="907560"/>
            <a:ext cx="1511280" cy="360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916360" y="1989000"/>
            <a:ext cx="576000" cy="5050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SKR HEAD1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348000" y="1628640"/>
            <a:ext cx="2664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0000"/>
                </a:solidFill>
                <a:latin typeface="Arial"/>
                <a:cs typeface="SKR HEAD1"/>
              </a:rPr>
              <a:t>أدخل سنة التخرج                         الصف الثالث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SKR HEAD1"/>
              </a:rPr>
              <a:t>1430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SKR HEAD1"/>
              </a:rPr>
              <a:t>                        الصف الثاني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SKR HEAD1"/>
              </a:rPr>
              <a:t>1431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SKR HEAD1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796000" y="2349360"/>
            <a:ext cx="165564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55640" y="3284640"/>
            <a:ext cx="576360" cy="5047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SKR HEAD1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405080" y="3068640"/>
            <a:ext cx="2519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0000"/>
                </a:solidFill>
                <a:latin typeface="Arial"/>
                <a:cs typeface="SKR HEAD1"/>
              </a:rPr>
              <a:t>أدخل رقم جوال لتصلك رسالة تأكيد التسجيل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924360" y="3500280"/>
            <a:ext cx="2016000" cy="2890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11280" y="4365720"/>
            <a:ext cx="576000" cy="5047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SKR HEAD1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187280" y="4221000"/>
            <a:ext cx="194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0000"/>
                </a:solidFill>
                <a:latin typeface="Arial"/>
                <a:cs typeface="SKR HEAD1"/>
              </a:rPr>
              <a:t>أدخل رقم   هاتف ثابت ولا تنسى كتابة مفتاح المدينة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3203640" y="4437000"/>
            <a:ext cx="259236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3203640" y="4437000"/>
            <a:ext cx="4105080" cy="504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59280" y="5445000"/>
            <a:ext cx="1871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0000"/>
                </a:solidFill>
                <a:latin typeface="Arial"/>
                <a:cs typeface="SKR HEAD1"/>
              </a:rPr>
              <a:t>ليس مهم إدخال بريد الكتروني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0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1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2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3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4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5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680"/>
                            </p:stCondLst>
                            <p:childTnLst>
                              <p:par>
                                <p:cTn id="41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500"/>
                            </p:stCondLst>
                            <p:childTnLst>
                              <p:par>
                                <p:cTn id="44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348000" y="404640"/>
            <a:ext cx="48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 u="sng">
                <a:solidFill>
                  <a:srgbClr val="000000"/>
                </a:solidFill>
                <a:uFillTx/>
                <a:latin typeface="Arial"/>
                <a:cs typeface="SKR HEAD1"/>
              </a:rPr>
              <a:t>تابع إدخال البيانات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900000" y="1341360"/>
            <a:ext cx="7667640" cy="4464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324000" y="620640"/>
            <a:ext cx="417672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0000"/>
                </a:solidFill>
                <a:latin typeface="Arial"/>
                <a:cs typeface="SKR HEAD1"/>
              </a:rPr>
              <a:t>خاص ببعض الطلا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SKR HEAD1"/>
              </a:rPr>
              <a:t>إن كنت تكتب بيدك اليسرى                                                                فاختر كرسي بمستند كتابة أيسر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SKR HEAD1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140360" y="1628640"/>
            <a:ext cx="3168360" cy="1368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012000" y="4437000"/>
            <a:ext cx="2952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0000"/>
                </a:solidFill>
                <a:latin typeface="Arial"/>
                <a:cs typeface="SKR HEAD1"/>
              </a:rPr>
              <a:t>تم الانتهاء                                        من ادخال البيانات اضغط  للانتقال لصفحة                   الإقرار بصحة البيانات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 flipV="1">
            <a:off x="5000760" y="5084640"/>
            <a:ext cx="1008000" cy="144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1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2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3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2280"/>
                            </p:stCondLst>
                            <p:childTnLst>
                              <p:par>
                                <p:cTn id="47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500"/>
                            </p:stCondLst>
                            <p:childTnLst>
                              <p:par>
                                <p:cTn id="48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5977080" cy="612144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6046920" y="476280"/>
            <a:ext cx="309708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ff"/>
                </a:solidFill>
                <a:latin typeface="Arial"/>
                <a:cs typeface="SKR HEAD1"/>
              </a:rPr>
              <a:t>هذه صفحة تأكيد البيانات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ff"/>
                </a:solidFill>
                <a:latin typeface="Arial"/>
                <a:cs typeface="SKR HEAD1"/>
              </a:rPr>
              <a:t>تأكد من أن جميع البيانات  صحيح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012000" y="2708280"/>
            <a:ext cx="298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084720" y="2637000"/>
            <a:ext cx="2664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0000"/>
                </a:solidFill>
                <a:latin typeface="Arial"/>
                <a:cs typeface="SKR HEAD1"/>
              </a:rPr>
              <a:t>لا حظ أن اسم المدرسة لم يظهر هنا وسنشرح لاحقاً كيف نجعل اسم المدرسة يظهر معنا ضمن البيانات  لمن لم يظهر معا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5292360" y="3141720"/>
            <a:ext cx="93492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rot="20153400">
            <a:off x="5640120" y="4327920"/>
            <a:ext cx="3678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8000"/>
                </a:solidFill>
                <a:latin typeface="Arial"/>
                <a:cs typeface="SKR HEAD1"/>
              </a:rPr>
              <a:t>إذا كانت البيانات صحيحة فاضغط  للحصول على رقم المشتر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787640" y="5373720"/>
            <a:ext cx="863640" cy="43164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 rot="12846000">
            <a:off x="-427680" y="5412960"/>
            <a:ext cx="349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ff"/>
                </a:solidFill>
                <a:latin typeface="Arial"/>
                <a:cs typeface="SKR HEAD1"/>
              </a:rPr>
              <a:t>إذا كانت البيانات تحتاج لتعديل اضغط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3059280" y="6237360"/>
            <a:ext cx="865080" cy="28728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500"/>
                            </p:stCondLst>
                            <p:childTnLst>
                              <p:par>
                                <p:cTn id="50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1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2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3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1800"/>
                            </p:stCondLst>
                            <p:childTnLst>
                              <p:par>
                                <p:cTn id="51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2" dur="8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3" dur="8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4" dur="8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1240"/>
                            </p:stCondLst>
                            <p:childTnLst>
                              <p:par>
                                <p:cTn id="52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2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8280360" cy="5543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80000" y="4076640"/>
            <a:ext cx="1296720" cy="432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rot="21450000">
            <a:off x="712080" y="4075920"/>
            <a:ext cx="2592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Arial"/>
                <a:cs typeface="SKR HEAD1"/>
              </a:rPr>
              <a:t>هذا رقم اشتراكك                     من المهم الاحتفاظ به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2987640" y="4292640"/>
            <a:ext cx="79236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767640" y="3284640"/>
            <a:ext cx="237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0000"/>
                </a:solidFill>
                <a:latin typeface="Arial"/>
                <a:cs typeface="SKR HEAD1"/>
              </a:rPr>
              <a:t>قد تكون العبارة التي في الأعلى مقلقة للبعض من عدم اتمام فتح الملف                 لكن اضغط هن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6215040" y="4724280"/>
            <a:ext cx="1008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227640" y="4724280"/>
            <a:ext cx="0" cy="360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 flipV="1">
            <a:off x="6732720" y="2637000"/>
            <a:ext cx="1511280" cy="57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020000" y="4653000"/>
            <a:ext cx="187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0000"/>
                </a:solidFill>
                <a:latin typeface="Arial"/>
                <a:cs typeface="SKR HEAD1"/>
              </a:rPr>
              <a:t>لتطمئن من أنك نجحت في فتح المل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mph" presetID="22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hsl" dir="cw">
                                      <p:cBhvr>
                                        <p:cTn id="54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4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4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54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8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9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0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5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8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9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0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2560"/>
                            </p:stCondLst>
                            <p:childTnLst>
                              <p:par>
                                <p:cTn id="56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3060"/>
                            </p:stCondLst>
                            <p:childTnLst>
                              <p:par>
                                <p:cTn id="56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4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5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6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8278560" cy="613116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971640" y="2133720"/>
            <a:ext cx="273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-1" strike="noStrike">
                <a:solidFill>
                  <a:srgbClr val="0000ff"/>
                </a:solidFill>
                <a:latin typeface="Arial"/>
                <a:cs typeface="SKR HEAD1"/>
              </a:rPr>
              <a:t>مبروك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3203640" y="1989000"/>
            <a:ext cx="3744720" cy="64800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500"/>
                            </p:stCondLst>
                            <p:childTnLst>
                              <p:par>
                                <p:cTn id="5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1000"/>
                            </p:stCondLst>
                            <p:childTnLst>
                              <p:par>
                                <p:cTn id="58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9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258920" y="44280"/>
            <a:ext cx="676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0000ff"/>
                </a:solidFill>
                <a:latin typeface="Arial"/>
                <a:cs typeface="SKR HEAD1"/>
              </a:rPr>
              <a:t>خطوات التسجيل لهذا العام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28000" y="1484280"/>
            <a:ext cx="792000" cy="576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  <a:ea typeface="SKR HEAD1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784520" y="1527120"/>
            <a:ext cx="619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0000"/>
                </a:solidFill>
                <a:latin typeface="Arial"/>
                <a:cs typeface="SKR HEAD1"/>
              </a:rPr>
              <a:t>فتح ملف خاص بالطالب  والحصول على رقم المشتر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078760" y="3213000"/>
            <a:ext cx="792360" cy="576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  <a:ea typeface="SKR HEAD1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835280" y="3209760"/>
            <a:ext cx="61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0000"/>
                </a:solidFill>
                <a:latin typeface="Arial"/>
                <a:cs typeface="SKR HEAD1"/>
              </a:rPr>
              <a:t>التسجيل في الموعد المناسب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078760" y="5013360"/>
            <a:ext cx="792360" cy="576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  <a:ea typeface="SKR HEAD1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835280" y="4987800"/>
            <a:ext cx="61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0000"/>
                </a:solidFill>
                <a:latin typeface="Arial"/>
                <a:cs typeface="SKR HEAD1"/>
              </a:rPr>
              <a:t>تسديد المقابل المالي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516720" y="2060640"/>
            <a:ext cx="0" cy="108108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516720" y="3787920"/>
            <a:ext cx="0" cy="108108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rot="20133600">
            <a:off x="330120" y="4055400"/>
            <a:ext cx="54291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00"/>
                </a:solidFill>
                <a:latin typeface="Arial"/>
                <a:cs typeface="SKR HEAD1"/>
              </a:rPr>
              <a:t>حديثنا اليوم سيكون عن طريقة فتح الملف والحصول على رقم المشترك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324000" y="907920"/>
            <a:ext cx="8353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7200" spc="-1" strike="noStrike">
                <a:solidFill>
                  <a:srgbClr val="0000ff"/>
                </a:solidFill>
                <a:latin typeface="Arial"/>
                <a:cs typeface="SKR HEAD1"/>
              </a:rPr>
              <a:t>بعد اتمام فتح الملف لا يعد هذا إنهاء عملية التسجيل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987640" y="-100080"/>
            <a:ext cx="287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8000" spc="-1" strike="noStrike">
                <a:solidFill>
                  <a:srgbClr val="ff0000"/>
                </a:solidFill>
                <a:latin typeface="Arial"/>
                <a:cs typeface="SKR HEAD1"/>
              </a:rPr>
              <a:t>تنبيه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68360" y="3213000"/>
            <a:ext cx="8280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000000"/>
                </a:solidFill>
                <a:latin typeface="Arial"/>
                <a:cs typeface="SKR HEAD1"/>
              </a:rPr>
              <a:t>بقي عليك خطوتين  حتى تنهي التسجيل                 خطوة تحديد الموعد   ، وخطوةتسديد المقابل المالي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84360" y="4797360"/>
            <a:ext cx="7777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SKR HEAD1"/>
              </a:rPr>
              <a:t>إلى الحصة الأولى اليوم غير متاح تحديد موعد الاختبار ، ما عليك إلا الاحتفاظ برقم المشترك والتشييك المستمر </a:t>
            </a:r>
            <a:r>
              <a:rPr b="0" lang="ar-SA" sz="2800" spc="-1" strike="noStrike">
                <a:solidFill>
                  <a:srgbClr val="ff0000"/>
                </a:solidFill>
                <a:latin typeface="Arial"/>
                <a:cs typeface="SKR HEAD1"/>
              </a:rPr>
              <a:t>على الموقع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SKR HEAD1"/>
              </a:rPr>
              <a:t>أو  الإتصال بالهاتف الموحد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ea typeface="SKR HEAD1"/>
              </a:rPr>
              <a:t>92000117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mph" presetID="23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hsl" dir="cw">
                                      <p:cBhvr>
                                        <p:cTn id="60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0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0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60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0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1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2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7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8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9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4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5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6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042920" y="1517760"/>
            <a:ext cx="727416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8800" spc="-1" strike="noStrike">
                <a:solidFill>
                  <a:srgbClr val="0000ff"/>
                </a:solidFill>
                <a:latin typeface="Arial"/>
                <a:cs typeface="SKR HEAD1"/>
              </a:rPr>
              <a:t>مشكلة في التسجيل              قد تواجهها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971640" y="1341360"/>
            <a:ext cx="7704000" cy="33130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3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4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5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79280" y="404640"/>
            <a:ext cx="8496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ff"/>
                </a:solidFill>
                <a:latin typeface="Arial"/>
                <a:cs typeface="SKR HEAD1"/>
              </a:rPr>
              <a:t>المشكلة :  عدم ظهور اسم المدرسة بعد فتح الملف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50920" y="1197000"/>
            <a:ext cx="8496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SKR HEAD1"/>
              </a:rPr>
              <a:t>الحل : بعد اتمام عملية التسجيل الدخول مرة أخرى من بوابة التسجيل كما في الخطوات الأولى للتسجيل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900000" y="2852640"/>
            <a:ext cx="7839360" cy="36720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-182520" y="3284640"/>
            <a:ext cx="2593800" cy="67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0000"/>
                </a:solidFill>
                <a:latin typeface="Arial"/>
                <a:cs typeface="SKR HEAD1"/>
              </a:rPr>
              <a:t>أدخل رقم                     السجل المدني                   ورقم المشترك                 الذي حصلت عليه هن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556000" y="4259160"/>
            <a:ext cx="2232000" cy="576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268360" y="4365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003640" y="5013360"/>
            <a:ext cx="266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ff"/>
                </a:solidFill>
                <a:latin typeface="Arial"/>
                <a:cs typeface="SKR HEAD1"/>
              </a:rPr>
              <a:t>اضغط تسجيل الدخول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 flipV="1">
            <a:off x="4500720" y="4941360"/>
            <a:ext cx="792000" cy="28764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1619280" y="4723920"/>
            <a:ext cx="1584360" cy="12970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5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6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7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2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3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4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1800"/>
                            </p:stCondLst>
                            <p:childTnLst>
                              <p:par>
                                <p:cTn id="66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6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2300"/>
                            </p:stCondLst>
                            <p:childTnLst>
                              <p:par>
                                <p:cTn id="67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7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7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8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9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640"/>
                            </p:stCondLst>
                            <p:childTnLst>
                              <p:par>
                                <p:cTn id="68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8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179280" y="379440"/>
            <a:ext cx="864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SKR HEAD1"/>
              </a:rPr>
              <a:t>ستظهر لك هذه الصفحة وهي الصفحة الأساسية الخاصة بك في مركز القياس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250920" y="1125360"/>
            <a:ext cx="7638840" cy="51343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7199280" y="2421000"/>
            <a:ext cx="1944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0000"/>
                </a:solidFill>
                <a:latin typeface="Arial"/>
                <a:cs typeface="SKR HEAD1"/>
              </a:rPr>
              <a:t>لا حظ معي عدم ظهور اسم المدرسة                       أو يظهر إما فيه خطأ أو نق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 flipV="1">
            <a:off x="6300720" y="2781360"/>
            <a:ext cx="1008000" cy="503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11280" y="3213000"/>
            <a:ext cx="439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8000"/>
                </a:solidFill>
                <a:latin typeface="Arial"/>
                <a:cs typeface="SKR HEAD1"/>
              </a:rPr>
              <a:t>لحل هذه المشكلة اضغط تعديل بيان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3851280" y="2852640"/>
            <a:ext cx="0" cy="4320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0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1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2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2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3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4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1800"/>
                            </p:stCondLst>
                            <p:childTnLst>
                              <p:par>
                                <p:cTn id="70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3" dur="8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4" dur="8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5" dur="8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1160"/>
                            </p:stCondLst>
                            <p:childTnLst>
                              <p:par>
                                <p:cTn id="71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1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3635280" y="189000"/>
            <a:ext cx="49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SKR HEAD1"/>
              </a:rPr>
              <a:t>صفحة تعديل البيانات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324000" y="1052640"/>
            <a:ext cx="8424720" cy="490212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179280" y="3573360"/>
            <a:ext cx="381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0000"/>
                </a:solidFill>
                <a:latin typeface="Arial"/>
                <a:cs typeface="SKR HEAD1"/>
              </a:rPr>
              <a:t>لاحظ اسم المدرسة استبدل بعلامات استفها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987640" y="4076640"/>
            <a:ext cx="1368360" cy="8650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419640" y="3141720"/>
            <a:ext cx="576000" cy="504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  <a:ea typeface="SKR HEAD1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80000" y="5734080"/>
            <a:ext cx="576000" cy="504720"/>
          </a:xfrm>
          <a:prstGeom prst="ellipse">
            <a:avLst/>
          </a:pr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Arial"/>
                <a:ea typeface="SKR HEAD1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68360" y="5445000"/>
            <a:ext cx="3311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8000"/>
                </a:solidFill>
                <a:latin typeface="Arial"/>
                <a:cs typeface="SKR HEAD1"/>
              </a:rPr>
              <a:t>اضغط هنا سنكرر خطوة                   البحث عن المدرسة مرة أخر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3708360" y="5300280"/>
            <a:ext cx="1150920" cy="36036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6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7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8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1400"/>
                            </p:stCondLst>
                            <p:childTnLst>
                              <p:par>
                                <p:cTn id="74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4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fill="hold">
                            <p:stCondLst>
                              <p:cond delay="500"/>
                            </p:stCondLst>
                            <p:childTnLst>
                              <p:par>
                                <p:cTn id="75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5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8209080" cy="538812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2771640" y="3284640"/>
            <a:ext cx="288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0000"/>
                </a:solidFill>
                <a:latin typeface="Arial"/>
                <a:cs typeface="SKR HEAD1"/>
              </a:rPr>
              <a:t>اكتب هنا اسم المدرس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219640" y="3716280"/>
            <a:ext cx="216000" cy="4334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508720" y="3357720"/>
            <a:ext cx="576000" cy="5047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SKR HEAD1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6227280" y="4149720"/>
            <a:ext cx="1008360" cy="142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164360" y="3860640"/>
            <a:ext cx="576360" cy="5050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SKR HEAD1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500720" y="4056120"/>
            <a:ext cx="136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Arial"/>
                <a:cs typeface="SKR HEAD1"/>
              </a:rPr>
              <a:t>مجمع الأمير محم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6" dur="indefinite" restart="never" nodeType="tmRoot">
          <p:childTnLst>
            <p:seq>
              <p:cTn id="757" dur="indefinite" nodeType="mainSeq">
                <p:childTnLst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fill="hold">
                            <p:stCondLst>
                              <p:cond delay="500"/>
                            </p:stCondLst>
                            <p:childTnLst>
                              <p:par>
                                <p:cTn id="77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7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9" dur="8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0" dur="8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1" dur="8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8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324000" y="1125360"/>
            <a:ext cx="8496000" cy="525636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3492360" y="189000"/>
            <a:ext cx="496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 u="sng">
                <a:solidFill>
                  <a:srgbClr val="000000"/>
                </a:solidFill>
                <a:uFillTx/>
                <a:latin typeface="Arial"/>
                <a:cs typeface="SKR HEAD1"/>
              </a:rPr>
              <a:t>نتيجة البحث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545080" y="5516640"/>
            <a:ext cx="359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0000"/>
                </a:solidFill>
                <a:latin typeface="Arial"/>
                <a:cs typeface="SKR HEAD1"/>
              </a:rPr>
              <a:t>اضغط على اختيار سينقلك لصفحة تجد اختيارك قد تظلل باللون البرتقالي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7740360" y="5373720"/>
            <a:ext cx="647640" cy="216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0" dur="indefinite" restart="never" nodeType="tmRoot">
          <p:childTnLst>
            <p:seq>
              <p:cTn id="791" dur="indefinite" nodeType="mainSeq">
                <p:childTnLst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6" dur="8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7" dur="8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8" dur="8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1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468360" y="260280"/>
            <a:ext cx="8064360" cy="605016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 flipH="1" flipV="1">
            <a:off x="5219640" y="5733720"/>
            <a:ext cx="1152720" cy="1429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012000" y="5516640"/>
            <a:ext cx="2881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  <a:cs typeface="SKR HEAD1"/>
              </a:rPr>
              <a:t>اضغط موافق للعودة                 لصفحة تعديل البيانات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2" dur="indefinite" restart="never" nodeType="tmRoot">
          <p:childTnLst>
            <p:seq>
              <p:cTn id="813" dur="indefinite" nodeType="mainSeq">
                <p:childTnLst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18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500"/>
                            </p:stCondLst>
                            <p:childTnLst>
                              <p:par>
                                <p:cTn id="82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2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611280" y="404640"/>
            <a:ext cx="8064360" cy="575964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 rot="19014000">
            <a:off x="208800" y="3490920"/>
            <a:ext cx="396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ff"/>
                </a:solidFill>
                <a:latin typeface="Arial"/>
                <a:cs typeface="SKR HEAD1"/>
              </a:rPr>
              <a:t>لاحظ تغير اسم المدرسة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627280" y="3933720"/>
            <a:ext cx="1368360" cy="115092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8" dur="indefinite" restart="never" nodeType="tmRoot">
          <p:childTnLst>
            <p:seq>
              <p:cTn id="829" dur="indefinite" nodeType="mainSeq">
                <p:childTnLst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4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500"/>
                            </p:stCondLst>
                            <p:childTnLst>
                              <p:par>
                                <p:cTn id="84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5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8424720" cy="278784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 rot="19604400">
            <a:off x="3420000" y="2491920"/>
            <a:ext cx="25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0000"/>
                </a:solidFill>
                <a:latin typeface="Arial"/>
                <a:cs typeface="SKR HEAD1"/>
              </a:rPr>
              <a:t>اضغط هنا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5292720" y="2491920"/>
            <a:ext cx="1655640" cy="360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>
            <a:off x="1476360" y="3500280"/>
            <a:ext cx="5689440" cy="28242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250920" y="4941720"/>
            <a:ext cx="122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ff0000"/>
                </a:solidFill>
                <a:latin typeface="Arial"/>
                <a:cs typeface="SKR HEAD1"/>
              </a:rPr>
              <a:t>اختر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476360" y="5373720"/>
            <a:ext cx="23749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2" dur="indefinite" restart="never" nodeType="tmRoot">
          <p:childTnLst>
            <p:seq>
              <p:cTn id="853" dur="indefinite" nodeType="mainSeq">
                <p:childTnLst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6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7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7" fill="hold">
                            <p:stCondLst>
                              <p:cond delay="500"/>
                            </p:stCondLst>
                            <p:childTnLst>
                              <p:par>
                                <p:cTn id="87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8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95280" y="2049480"/>
            <a:ext cx="842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SKR HEAD1"/>
              </a:rPr>
              <a:t>أولى الخطوات  الذهاب إلى موقع مركز القياس  إما بكتابة اسم الموقع مباشرة من النشرات المعطاة أو الذهاب لموقع البحث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SKR HEAD1"/>
              </a:rPr>
              <a:t>www.google.com.s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250920" y="54936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0000"/>
                </a:solidFill>
                <a:latin typeface="Arial"/>
                <a:cs typeface="SKR HEAD1"/>
              </a:rPr>
              <a:t>تم بحمد الله تعديل البيانات  وستظهر صفحتك الرئيسية كهذه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826920" y="1268280"/>
            <a:ext cx="7639200" cy="518184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2124000" y="3357720"/>
            <a:ext cx="374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0000"/>
                </a:solidFill>
                <a:latin typeface="Arial"/>
                <a:cs typeface="SKR HEAD1"/>
              </a:rPr>
              <a:t>لا حظ ظهور اسم المدرسة هنا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5435640" y="2997000"/>
            <a:ext cx="792000" cy="431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9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7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8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9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0" fill="hold">
                            <p:stCondLst>
                              <p:cond delay="880"/>
                            </p:stCondLst>
                            <p:childTnLst>
                              <p:par>
                                <p:cTn id="90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0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395280" y="836640"/>
            <a:ext cx="7777080" cy="64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ff"/>
                </a:solidFill>
                <a:latin typeface="Arial"/>
                <a:cs typeface="SKR HEAD1"/>
              </a:rPr>
              <a:t>ختاما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ff"/>
                </a:solidFill>
                <a:latin typeface="Arial"/>
                <a:cs typeface="SKR HEAD1"/>
              </a:rPr>
              <a:t>أسأل الله العلي العظيم أن ييسر لكم اختبار القدرات ويوفقكم فيه  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ff"/>
                </a:solidFill>
                <a:latin typeface="Arial"/>
                <a:cs typeface="SKR HEAD1"/>
              </a:rPr>
              <a:t>ولا أنسى قبل الختام أن أقدم جزيل الشكر والتقدير لزملائكم الذين منحوني الفرصة لتسجيلهم حتى أثبت خطوات التسجيل وأنقلها لكم كما شاهدتموها فلهم مني وافر التقدير والاحترا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ff"/>
                </a:solidFill>
                <a:latin typeface="Arial"/>
                <a:cs typeface="SKR HEAD1"/>
              </a:rPr>
              <a:t>وتقبلوا جميعاً تحياتي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ff"/>
                </a:solidFill>
                <a:latin typeface="Arial"/>
                <a:cs typeface="SKR HEAD1"/>
              </a:rPr>
              <a:t>أخوك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ff"/>
                </a:solidFill>
                <a:latin typeface="Arial"/>
                <a:cs typeface="SKR HEAD1"/>
              </a:rPr>
              <a:t>طارق السنحان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SKR HEAD1"/>
              </a:rPr>
              <a:t>Tarik.505@windowslive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8208720" cy="5472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804000" y="2565360"/>
            <a:ext cx="172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651640" y="2421000"/>
            <a:ext cx="324144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SKR HEAD1"/>
              </a:rPr>
              <a:t>    (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SKR HEAD1"/>
              </a:rPr>
              <a:t>1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SKR HEAD1"/>
              </a:rPr>
              <a:t>)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SKR HEAD1"/>
              </a:rPr>
              <a:t>     </a:t>
            </a:r>
            <a:r>
              <a:rPr b="0" lang="hi-IN" sz="2000" spc="-1" strike="noStrike">
                <a:solidFill>
                  <a:srgbClr val="ff0000"/>
                </a:solidFill>
                <a:latin typeface="Arial"/>
                <a:cs typeface="SKR HEAD1"/>
              </a:rPr>
              <a:t>نكتب قياس  في خانة البحث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SKR HEAD1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5292720" y="2924280"/>
            <a:ext cx="1224000" cy="649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4221000"/>
            <a:ext cx="20178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SKR HEAD1"/>
              </a:rPr>
              <a:t>(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SKR HEAD1"/>
              </a:rPr>
              <a:t>2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SKR HEAD1"/>
              </a:rPr>
              <a:t>)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SKR HEAD1"/>
              </a:rPr>
              <a:t>       </a:t>
            </a:r>
            <a:r>
              <a:rPr b="0" lang="hi-IN" sz="2000" spc="-1" strike="noStrike">
                <a:solidFill>
                  <a:srgbClr val="ff0000"/>
                </a:solidFill>
                <a:latin typeface="Arial"/>
                <a:cs typeface="SKR HEAD1"/>
              </a:rPr>
              <a:t>اضغط على بحث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SKR HEAD1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1979640" y="3789360"/>
            <a:ext cx="187164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539640" y="189000"/>
            <a:ext cx="8425080" cy="61927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835280" y="4292640"/>
            <a:ext cx="324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Arial"/>
                <a:cs typeface="SKR HEAD1"/>
              </a:rPr>
              <a:t>اختر أول نتيجة ستظهر ل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003640" y="4724280"/>
            <a:ext cx="505080" cy="2174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300"/>
                            </p:stCondLst>
                            <p:childTnLst>
                              <p:par>
                                <p:cTn id="12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042920" y="549360"/>
            <a:ext cx="7850160" cy="59054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62240" y="3916440"/>
            <a:ext cx="1150920" cy="576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4880" y="3675240"/>
            <a:ext cx="720720" cy="360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-108000" y="3213000"/>
            <a:ext cx="115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0000"/>
                </a:solidFill>
                <a:latin typeface="Arial"/>
                <a:cs typeface="SKR HEAD1"/>
              </a:rPr>
              <a:t>اضغط هنا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4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4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500"/>
                            </p:stCondLst>
                            <p:childTnLst>
                              <p:par>
                                <p:cTn id="14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8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403280" y="476280"/>
            <a:ext cx="7272360" cy="59770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700360" y="2205000"/>
            <a:ext cx="1152360" cy="107964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971640" y="1557360"/>
            <a:ext cx="1728720" cy="8636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1052640"/>
            <a:ext cx="154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ff0000"/>
                </a:solidFill>
                <a:latin typeface="Arial"/>
                <a:cs typeface="SKR HEAD1"/>
              </a:rPr>
              <a:t>اضغط هنا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320"/>
                            </p:stCondLst>
                            <p:childTnLst>
                              <p:par>
                                <p:cTn id="16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820"/>
                            </p:stCondLst>
                            <p:childTnLst>
                              <p:par>
                                <p:cTn id="17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250920" y="476280"/>
            <a:ext cx="8675640" cy="5513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 flipV="1">
            <a:off x="5724360" y="3429000"/>
            <a:ext cx="360360" cy="1008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43280" y="2421000"/>
            <a:ext cx="3456000" cy="9381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76680" y="4178160"/>
            <a:ext cx="201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-1" strike="noStrike">
                <a:solidFill>
                  <a:srgbClr val="ff0000"/>
                </a:solidFill>
                <a:latin typeface="Arial"/>
                <a:cs typeface="SKR HEAD1"/>
              </a:rPr>
              <a:t>اضغط هنا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7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9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142920" y="189000"/>
            <a:ext cx="8893080" cy="64310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50920" y="4754520"/>
            <a:ext cx="4608360" cy="22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ff0000"/>
                </a:solidFill>
                <a:latin typeface="Arial"/>
                <a:cs typeface="SKR HEAD1"/>
              </a:rPr>
              <a:t>بعد تعبئة هذه البيانات  اضغط هنا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0000"/>
                </a:solidFill>
                <a:latin typeface="Arial"/>
                <a:cs typeface="SKR HEAD1"/>
              </a:rPr>
              <a:t>ستنتقل لصفحة يطلب منك إدخال عدة بيان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284720" y="5445000"/>
            <a:ext cx="2374920" cy="792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4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5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6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3T09:02:07Z</dcterms:created>
  <dc:creator>Stars</dc:creator>
  <dc:description/>
  <dc:language>en-US</dc:language>
  <cp:lastModifiedBy>abc</cp:lastModifiedBy>
  <dcterms:modified xsi:type="dcterms:W3CDTF">2008-12-01T20:16:31Z</dcterms:modified>
  <cp:revision>43</cp:revision>
  <dc:subject/>
  <dc:title>الشريحة 1</dc:title>
</cp:coreProperties>
</file>