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286-FA1E-4475-B8D2-5CEEEB37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A17-3EAD-46C4-B354-02B7A061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7BC-9644-4901-9EB0-05766463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91F-022F-4E7B-8956-EC3A6A77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B67-729D-4771-AC9A-986E96E9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F82-D099-4B26-AD99-4C3A3C7F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850-CE68-4872-80F2-11C276C2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585-BEF8-4C08-BC1C-CAD4D803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5DD-9F43-4687-A9D3-9BCEEAAE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9969-BFDA-495E-B75D-334C3E57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8A2-6F1D-408E-B128-C462FB94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84CD-ECC1-4323-8F1E-F92A81DC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2DB6-830D-4E6F-A729-75D7B6A68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54936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شعار المعارف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4860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227640" y="692280"/>
          <a:ext cx="186084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692280"/>
                    <a:ext cx="18608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BISM1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1486080" cy="40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-913680" bIns="-11376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160" y="1267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8926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Bader"/>
              </a:rPr>
              <a:t>خطوات التسجيل في اختبار القدرا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149720"/>
            <a:ext cx="48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إعدا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طارق السنحا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2200" y="260280"/>
            <a:ext cx="8821800" cy="597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105264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هنا سيظهر اسم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557360"/>
            <a:ext cx="649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28600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أكد هنا إذا الاسم صح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588000" y="2420640"/>
            <a:ext cx="1079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71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جن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7360" y="4005360"/>
            <a:ext cx="5032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31496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ثانوي  ثم حدد الص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4797360"/>
            <a:ext cx="136692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60181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حدد التخصص إما علمي أو نظ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6021360"/>
            <a:ext cx="1440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2205000"/>
            <a:ext cx="433080" cy="503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364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4292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6093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280360" cy="561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189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ff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451640" y="4005360"/>
            <a:ext cx="115272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2544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قسم  التعليمي حسب تخصص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24720" y="5734080"/>
            <a:ext cx="50328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9640" y="277956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522936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مدرس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إكمال إدخا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569440" cy="629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0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تم إضافة اسم مدرستك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48360" y="907560"/>
            <a:ext cx="15112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1989000"/>
            <a:ext cx="57600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628640"/>
            <a:ext cx="26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سنة التخرج                         الصف الثالث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                       الصف الثاني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34936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3284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5080" y="306864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جوال لتصلك رسالة تأكيد التسجي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500280"/>
            <a:ext cx="2016000" cy="2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365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22100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هاتف ثابت ولا تنسى كتابة مفتاح المدين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3640" y="443700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3640" y="4437000"/>
            <a:ext cx="41050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4450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يس مهم إدخال بريد الكترو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8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34800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667640" cy="446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620640"/>
            <a:ext cx="417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خاص ببعض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إن كنت تكتب بيدك اليسرى                                                                فاختر كرسي بمستند كتابة أيس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628640"/>
            <a:ext cx="316836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437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م الانتهاء                                        من ادخال البيانات اضغط  للانتقال لصفحة                   الإقرار بصحة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000760" y="5084640"/>
            <a:ext cx="100800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28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977080" cy="612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46920" y="476280"/>
            <a:ext cx="309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هذه صفحة تأكيد البيان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تأكد من أن جميع البيانات  صحيح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7082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637000"/>
            <a:ext cx="26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SKR HEAD1"/>
              </a:rPr>
              <a:t>لا حظ أن اسم المدرسة لم يظهر هنا وسنشرح لاحقاً كيف نجعل اسم المدرسة يظهر معنا ضمن البيانات  لمن لم يظهر مع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2360" y="3141720"/>
            <a:ext cx="934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153400">
            <a:off x="5640120" y="4327920"/>
            <a:ext cx="367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إذا كانت البيانات صحيحة فاضغط  للحصول على رقم المشتر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87640" y="5373720"/>
            <a:ext cx="863640" cy="431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12846000">
            <a:off x="-427680" y="5412960"/>
            <a:ext cx="34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إذا كانت البيانات تحتاج لتعديل اضغ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59280" y="6237360"/>
            <a:ext cx="86508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4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54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80000" y="4076640"/>
            <a:ext cx="12967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1450000">
            <a:off x="712080" y="407592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هذا رقم اشتراكك                     من المهم الاحتفاظ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87640" y="4292640"/>
            <a:ext cx="792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67640" y="32846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قد تكون العبارة التي في الأعلى مقلقة للبعض من عدم اتمام فتح الملف                 لكن اضغط ه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15040" y="472428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472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732720" y="2637000"/>
            <a:ext cx="15112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4653000"/>
            <a:ext cx="18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تطمئن من أنك نجحت في فتح الم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6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6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278560" cy="6131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2133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ff"/>
                </a:solidFill>
                <a:latin typeface="Arial"/>
                <a:cs typeface="SKR HEAD1"/>
              </a:rPr>
              <a:t>مبرو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3640" y="1989000"/>
            <a:ext cx="3744720" cy="6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44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Arial"/>
                <a:cs typeface="SKR HEAD1"/>
              </a:rPr>
              <a:t>خطوات التسجيل لهذا العا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8000" y="1484280"/>
            <a:ext cx="792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4520" y="1527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فتح ملف خاص بالطالب  والحصول على رقم المشتر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8760" y="321300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2097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لتسجيل في الموعد المناس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8760" y="501336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49878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سديد المقابل الما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206064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78792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133600">
            <a:off x="330120" y="4055400"/>
            <a:ext cx="542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SKR HEAD1"/>
              </a:rPr>
              <a:t>حديثنا اليوم سيكون عن طريقة فتح الملف والحصول على رقم المشتر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9079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ff"/>
                </a:solidFill>
                <a:latin typeface="Arial"/>
                <a:cs typeface="SKR HEAD1"/>
              </a:rPr>
              <a:t>بعد اتمام فتح الملف لا يعد هذا إنهاء عملية التسج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-10008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  <a:cs typeface="SKR HEAD1"/>
              </a:rPr>
              <a:t>تنبي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213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SKR HEAD1"/>
              </a:rPr>
              <a:t>بقي عليك خطوتين  حتى تنهي التسجيل                 خطوة تحديد الموعد   ، وخطوةتسديد المقابل المال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79736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إلى الحصة الأولى اليوم غير متاح تحديد موعد الاختبار ، ما عليك إلا الاحتفاظ برقم المشترك والتشييك المستمر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على الموقع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  الإتصال بالهاتف الموحد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ea typeface="SKR HEAD1"/>
              </a:rPr>
              <a:t>920001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42920" y="1517760"/>
            <a:ext cx="727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ff"/>
                </a:solidFill>
                <a:latin typeface="Arial"/>
                <a:cs typeface="SKR HEAD1"/>
              </a:rPr>
              <a:t>مشكلة في التسجيل              قد تواجه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341360"/>
            <a:ext cx="7704000" cy="331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40464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المشكلة :  عدم ظهور اسم المدرسة بعد فتح المل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84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الحل : بعد اتمام عملية التسجيل الدخول مرة أخرى من بوابة التسجيل كما في الخطوات الأولى للتسجي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7839360" cy="36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82520" y="3284640"/>
            <a:ext cx="2593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                  السجل المدني                   ورقم المشترك                 الذي حصلت عليه هن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259160"/>
            <a:ext cx="2232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501336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اضغط تسجيل الدخ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00720" y="4941360"/>
            <a:ext cx="79200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19280" y="4723920"/>
            <a:ext cx="1584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3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40"/>
                            </p:stCondLst>
                            <p:childTnLst>
                              <p:par>
                                <p:cTn id="6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3794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ستظهر لك هذه الصفحة وهي الصفحة الأساسية الخاصة بك في مركز القيا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7638840" cy="513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99280" y="2421000"/>
            <a:ext cx="194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ا حظ معي عدم ظهور اسم المدرسة                       أو يظهر إما فيه خطأ أو 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300720" y="2781360"/>
            <a:ext cx="100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21300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8000"/>
                </a:solidFill>
                <a:latin typeface="Arial"/>
                <a:cs typeface="SKR HEAD1"/>
              </a:rPr>
              <a:t>لحل هذه المشكلة اضغط تعديل 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51280" y="2852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6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35280" y="18900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صفحة تعديل البيان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424720" cy="4902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357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احظ اسم المدرسة استبدل بعلامات استفه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4076640"/>
            <a:ext cx="136836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3141720"/>
            <a:ext cx="57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5734080"/>
            <a:ext cx="57600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44500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اضغط هنا سنكرر خطوة                   البحث عن المدرسة مرة 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08360" y="5300280"/>
            <a:ext cx="1150920" cy="36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400"/>
                            </p:stCondLst>
                            <p:childTnLst>
                              <p:par>
                                <p:cTn id="7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المدر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صفحة تعدي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575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9014000">
            <a:off x="208800" y="34909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لاحظ تغير اسم المدر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3933720"/>
            <a:ext cx="1368360" cy="1150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24720" cy="27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19604400">
            <a:off x="3420000" y="2491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92720" y="2491920"/>
            <a:ext cx="1655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5689440" cy="2824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494172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0000"/>
                </a:solidFill>
                <a:latin typeface="Arial"/>
                <a:cs typeface="SKR HEAD1"/>
              </a:rPr>
              <a:t>اخت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5373720"/>
            <a:ext cx="2374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0494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لى الخطوات  الذهاب إلى موقع مركز القياس  إما بكتابة اسم الموقع مباشرة من النشرات المعطاة أو الذهاب لموقع البح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www.google.com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SKR HEAD1"/>
              </a:rPr>
              <a:t>تم بحمد الله تعديل البيانات  وستظهر صفحتك الرئيسية كهذ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639200" cy="518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000" y="335772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ظهور اسم المدرسة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435640" y="2997000"/>
            <a:ext cx="792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880"/>
                            </p:stCondLst>
                            <p:childTnLst>
                              <p:par>
                                <p:cTn id="9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836640"/>
            <a:ext cx="7777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ختاما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سأل الله العلي العظيم أن ييسر لكم اختبار القدرات ويوفقكم فيه 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لا أنسى قبل الختام أن أقدم جزيل الشكر والتقدير لزملائكم الذين منحوني الفرصة لتسجيلهم حتى أثبت خطوات التسجيل وأنقلها لكم كما شاهدتموها فلهم مني وافر التقدير والاحتر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تقبلوا جميعاً تحيات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طارق السنح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SKR HEAD1"/>
              </a:rPr>
              <a:t>Tarik.505@windowsliv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04000" y="2565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421000"/>
            <a:ext cx="32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   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نكتب قياس  في خانة ال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292720" y="2924280"/>
            <a:ext cx="122400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21000"/>
            <a:ext cx="201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79640" y="3789360"/>
            <a:ext cx="187164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425080" cy="61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35280" y="4292640"/>
            <a:ext cx="32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أول نتيجة ستظهر 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4724280"/>
            <a:ext cx="505080" cy="21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850160" cy="590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2240" y="3916440"/>
            <a:ext cx="1150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4880" y="3675240"/>
            <a:ext cx="72072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08000" y="321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7272360" cy="59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2205000"/>
            <a:ext cx="1152360" cy="10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557360"/>
            <a:ext cx="172872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5264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2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75640" cy="551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5724360" y="3429000"/>
            <a:ext cx="3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2421000"/>
            <a:ext cx="3456000" cy="93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6680" y="417816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8893080" cy="6431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754520"/>
            <a:ext cx="46083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بعد تعبئة هذه البيانات  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ستنتقل لصفحة يطلب منك إدخال عدة ب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5445000"/>
            <a:ext cx="237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02:07Z</dcterms:created>
  <dc:creator>Stars</dc:creator>
  <dc:description/>
  <dc:language>en-US</dc:language>
  <cp:lastModifiedBy>abc</cp:lastModifiedBy>
  <dcterms:modified xsi:type="dcterms:W3CDTF">2008-12-01T20:16:31Z</dcterms:modified>
  <cp:revision>43</cp:revision>
  <dc:subject/>
  <dc:title>الشريحة 1</dc:title>
</cp:coreProperties>
</file>