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36A-D045-4B9F-9AF6-95A42814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943-B39A-42A8-9452-686920A3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D1A-D6AC-450D-8E38-8B23AF7B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22C-650F-4B45-B4AF-4AD7B766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EC3-F05C-4E41-A2D4-A45220E0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793-BB1A-4B85-86DF-FF8A9F83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2D2-9083-49BA-BE15-2636AEE4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6CE-8825-4D5D-935B-B6944D19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124-4B15-44D9-A90C-BDC2B43D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945-235B-4EBF-BE43-570E248E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1C6-C756-4FC2-9808-22066A8D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03D-C43D-454D-8376-D4BF7F3A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353B-D2E2-4F5F-A83B-B78007B098E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7d7ff"/>
                </a:solidFill>
                <a:latin typeface="Times New Roman"/>
                <a:cs typeface="ALAWI-3-4"/>
              </a:rPr>
              <a:t>النصيحة بجم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41767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Times New Roman"/>
                <a:cs typeface="FS_Free"/>
              </a:rPr>
              <a:t>الجزء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لابد من شيء من المخاطرة المحسوبة، من أجل ا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0" spc="-1" strike="noStrike">
                <a:solidFill>
                  <a:srgbClr val="666699"/>
                </a:solidFill>
                <a:latin typeface="Times New Roman"/>
                <a:cs typeface="Andalus"/>
              </a:rPr>
              <a:t>النصيحة بجم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جزء الث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ff"/>
            </a:gs>
            <a:gs pos="100000">
              <a:srgbClr val="6e7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استرخِ، حتى في أحلك الظرو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d9a1"/>
                </a:solidFill>
                <a:latin typeface="Times New Roman"/>
                <a:cs typeface="FS_Free"/>
              </a:rPr>
              <a:t>احرص على العمل بروح الفري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257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129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نكتة عابرة تشيع البهجة لدى الجمي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481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FS_Free"/>
              </a:rPr>
              <a:t>عبر عن نفسك بطرائق مبتك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68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كن يقظًا </a:t>
            </a:r>
            <a:r>
              <a:rPr b="1" lang="ar-SA" sz="3200" spc="-1" strike="noStrike">
                <a:solidFill>
                  <a:srgbClr val="336699"/>
                </a:solidFill>
                <a:latin typeface="Times New Roman"/>
                <a:cs typeface="FS_Free"/>
              </a:rPr>
              <a:t>دائمًا</a:t>
            </a:r>
            <a:r>
              <a:rPr b="1" lang="ar-SA" sz="2800" spc="-1" strike="noStrike">
                <a:solidFill>
                  <a:srgbClr val="336699"/>
                </a:solidFill>
                <a:latin typeface="Times New Roman"/>
                <a:ea typeface="FS_Free"/>
              </a:rPr>
              <a:t> لمواجهة المفاجآ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112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5832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9900"/>
                </a:solidFill>
                <a:latin typeface="Times New Roman"/>
                <a:cs typeface="FS_Free"/>
              </a:rPr>
              <a:t>أشْرِك الآخرين في المغنم أيضً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47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الأمور الطيبة تحدث للطيب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ليكن لك من اسمك نص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24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e89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FS_Free"/>
              </a:rPr>
              <a:t> 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الصديق وقت الضي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361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تمسك بأصدقائك الأوفياء، فهم قليلون هذه الأي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0066"/>
                </a:solidFill>
                <a:latin typeface="Times New Roman"/>
                <a:cs typeface="ALAWI-3-4"/>
              </a:rPr>
              <a:t>تشكرات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ee9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ثِق في قدرات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201680"/>
            <a:ext cx="6048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8500"/>
            </a:gs>
            <a:gs pos="100000">
              <a:srgbClr val="6666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41040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imes New Roman"/>
                <a:cs typeface="FS_Free"/>
              </a:rPr>
              <a:t>كن شجاعً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393920"/>
            <a:ext cx="56894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9f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4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تكيف مع الظروف مهما كانت صع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3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0920" y="475920"/>
            <a:ext cx="4608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ffaff"/>
                </a:solidFill>
                <a:latin typeface="Times New Roman"/>
                <a:cs typeface="FS_Free"/>
              </a:rPr>
              <a:t>نوِّع في علاقا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32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حافظ على هدوئك، حتى في أصعب المواق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ff"/>
                </a:solidFill>
                <a:latin typeface="Times New Roman"/>
                <a:cs typeface="FS_Free"/>
              </a:rPr>
              <a:t>لابأس بشيء من الدعابة، ففي الحياة مايكفي من المنغص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0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أحب أصدقاءك كما هم، لاكما تريد أن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06-05-13T08:30:55Z</dcterms:modified>
  <cp:revision>9</cp:revision>
  <dc:subject/>
  <dc:title>PowerPoint Presentation</dc:title>
</cp:coreProperties>
</file>