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B04-D807-4F30-A5D2-D2090FFA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C1E-7C47-4C26-B4D8-FB27C34B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1EB-E850-4E93-9F0F-8E725E7F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4B0-9171-43BD-9136-7B076740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28DD-CEE6-4BEF-ABE6-07A948BB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86D8-AAA0-4215-984E-210ED91C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7B90-AA0E-40DB-A338-0D6B58BC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5842-3C8F-4E0B-B6FE-C32DF38F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1A01-6C42-43EB-8E63-F8D8301A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E59E-203B-4F8D-98EA-600BE8F4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CA48-A1E0-43A5-AF57-D40CB712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CA1F-5BA8-40D2-B2DF-79291BBE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EBDD-FF8B-4C32-91A2-AA0F2520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0203-3BE3-40B3-8FDC-031938ED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3231-C3D0-4F54-80B1-775230B4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0DE0-D5D5-49F9-BFB6-4653F1D9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A605-86E8-41B1-8702-349BA1A4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75C-DD1C-4CF7-B2F6-64306D82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59A-AE7C-4F3C-BE3C-0A2E49A5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1DC-6DEE-4018-BCE6-8E58CD4F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8B0-F5AD-4CB8-912F-BE476806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425-B873-4A62-9E29-1D2262B9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49B-8103-450E-92F6-75704243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0C1-D5CF-4F7C-99EB-04C16C45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690840" indent="-26568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06272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48788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191304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68E7-305B-4E2F-B581-57BD8D11E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FAE8-072A-4B0C-9C6D-96CCC3468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4646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4646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6464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3399"/>
                </a:solidFill>
                <a:latin typeface="Arial"/>
              </a:rPr>
              <a:t>شركة العلم</a:t>
            </a:r>
            <a:endParaRPr b="0" lang="en-US" sz="6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ننسج المعلومة خدمة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3520" y="18637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3399"/>
                </a:solidFill>
                <a:latin typeface="Arial"/>
              </a:rPr>
              <a:t>تم</a:t>
            </a:r>
            <a:br>
              <a:rPr sz="6700"/>
            </a:b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تأكيد الملك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الخدمة التي تقدم السيرة الذاتية لكل سيارة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280" y="2798640"/>
            <a:ext cx="76201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464646"/>
                </a:solidFill>
                <a:latin typeface="Arial"/>
              </a:rPr>
              <a:t>الخدمة التي تخبر بالمالك الحقيقي للسيارة المستعملة قبل شرائها، وعدد الملاك السابقين، ومدد ملكياتهم، والمخالفات المستحقة على البائع والمشتري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قبل 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سي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سرق السيارات وتباع باستمارات مزورة..!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استم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ختفي معلوماتها عند استصدار (بدل فاقد).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وعندما جاءت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464646"/>
                </a:solidFill>
                <a:latin typeface="Arial"/>
              </a:rPr>
              <a:t>معرفة المالك الحقيقي، وعدد الملاك السابقين، ومدد ملكياتهم، والمخالفات المستحقة.. </a:t>
            </a:r>
            <a:r>
              <a:rPr b="0" lang="hi-IN" sz="3200" spc="-1" strike="noStrike">
                <a:solidFill>
                  <a:srgbClr val="ff0000"/>
                </a:solidFill>
                <a:latin typeface="Arial"/>
              </a:rPr>
              <a:t>خلال ثوان معدودة.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1305000"/>
            <a:ext cx="7362720" cy="555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83400" y="315828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-1908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5292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>
            <a:off x="133200" y="625896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Leaf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57520" y="1712880"/>
            <a:ext cx="2752560" cy="384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6320" y="1295280"/>
            <a:ext cx="2435040" cy="42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562720" y="2870280"/>
            <a:ext cx="3504960" cy="26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1522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Roll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603504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p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2195280"/>
            <a:ext cx="792036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شكرا</a:t>
            </a:r>
            <a:br>
              <a:rPr sz="10000"/>
            </a:b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لكم</a:t>
            </a:r>
            <a:endParaRPr b="0" lang="en-US" sz="10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2-17T09:30:05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